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54EB-A18A-4F65-9838-0D55E29D5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AF6C-2CAA-46E2-8AE6-59FE2A74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EA5B-8829-4ECD-B096-C972D090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DCAB-2C2E-4907-BD29-D13D832C1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9F29-68D9-457A-86F7-B81B579D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A5F9-E231-43B5-8897-3DAD35F7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DC2C-0327-45E6-BD4B-79D0AFEA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8A95-B3F3-40DC-BED2-DDEA2A1E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4667-C4AF-4138-BC36-5B5AAAD1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A9D7-2DE7-49E9-9272-9596D801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D236-36DA-439B-A52A-65121E52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2675-31C3-448B-8933-985EFB23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A751-FA08-4B5C-A951-599B9CFC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4BDE-46E9-45DA-909B-B692422A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2BCD-13DB-43F3-8904-B2D780AD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E9C3-6F4E-4288-BD81-5AA8CF441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BFEC-5A72-41D6-BA27-9749EBEA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6CD44-BC3D-411D-874A-680D91E4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A9C23-2CF0-4BEB-830B-10CD2B7F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C8C8C-C179-492B-8C6C-2F8563B0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9D51B-4E15-4C3E-B879-2C91D94F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F387E-6A73-4245-87A5-E22B6C9C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1662-2772-4C97-B417-A6DD324C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AD863-FD62-4B02-86FD-B89F7D3D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E5813-330F-4B62-B2C2-DEABF19B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E86BF-9699-4337-A5A2-AF9FB65D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72964-5A48-4896-87CE-A8AF9A42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601A6-0492-4E95-A761-5C5690AB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B8C48-683E-4E9D-8EF4-5F4F36AE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25E7C-1E99-49DB-AFD4-EC4D6EEE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F7BE1-FA85-44CB-98D7-4BB279059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21241-6551-4D24-AB34-8DE4A047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98279-D222-4463-A932-6C13CAD7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F804-D48D-4B7F-B28F-8DAEA183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975DF-A3F3-4335-A22B-94E697AB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18523-1A8A-4F71-88A2-2E79F06C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F8D6D-B2B9-428B-9B66-91A591A2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BB84E-7C5C-4EC9-8893-2567D7D7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A3510-EF11-4AE1-9718-9E2AFAE9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C4603-4359-4363-B66F-E8E0274C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F66AE-66C1-4545-9E15-431C3457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B1824-62CA-4A8E-AAAB-0DAA5740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5A1E8-8223-4E84-92DE-035F1697D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C3F98-5BC7-4A00-9D4D-CF0F69CC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C2E7-F0D4-4BE5-8FD4-56B44CD0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E3E6D-EB7E-408F-9498-55F4DE52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FC037-4EAA-426A-8A29-34EBEF65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AFE2D-30B9-4BA3-8131-E39FAFA9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16516-2DFF-4203-AD88-CCC2DC18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BC3B2-C6D8-426F-AC70-D4ACA74C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F2AD9-7AEE-47B9-9F2A-BF353875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99F14-0556-4AFD-938C-3324903B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FEA47-1154-426E-9A74-54F5F691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B7FCB-2452-493C-8D8B-9DF0BEEC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B7068-4560-4240-AA30-23DAF7E84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DEAB-C8FD-4E9B-858B-9168D2AB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8CA7E-38A1-464D-8793-A7A44F6A1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51852-739D-4749-8B43-B8308F63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A87CB-E962-4A81-B766-F5E9AE24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9B563-3A45-4F32-908B-B52BF8C3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E30B5-85DD-47C4-8B86-E5C518F0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9B3A8-A50B-4F46-9021-5E700232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F9E67-565F-45FE-B26D-3BABA47A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908EB-5A08-4B7D-AB02-3EFBC916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E2DB0-4C34-4143-BF72-FC696B4B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2591A-803A-4CC8-B6E0-581BFB69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3290-AF16-4572-9DA3-36D41662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056BB-B19F-4B3F-8C6F-6BD40F3B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B2AD0-6C76-4AF3-A6B7-1A96B80A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4262C-1DBA-4F59-AC21-A9C36893D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7DBBD-16FE-4F59-92C2-63A5FB52D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6E97D-CF49-4531-94C1-22B0195D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42A85-32DE-4360-A6DE-67333876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9238B-BC6F-4C70-82CA-AE896AD4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FE30C-8C99-4092-A8E2-8EC0DA2B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0A74F-18CC-4201-B120-1B3FF255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23E76-31CE-4D46-B5D5-D50A8097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DB31-E6DB-43FD-A5DA-190B6092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6DEAD-F0E2-4D34-8DBC-A2C57005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9D85A-E746-4043-B79C-03D1DF6C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6F279-1D1B-401B-9ACA-4A8F98B9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9CD25-F2F3-41ED-B463-E45A3200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B7A5E-D3DF-489F-858C-6460ACA46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B96F5-9B41-4B50-8E04-1EE96DF1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B9148-7EFF-4D10-A2C7-8327CF11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16906-7B5B-4245-A0EC-E8530A48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DDCF7-C9C8-4BDD-A058-247B917D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1EA69-715A-44CF-9C43-8543B50F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1BCB-3C0D-4C01-AD34-D992B6B8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BE343-79FE-4BEA-9A7D-CBE55E95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8611E-B494-405A-AC18-B0F13661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55560-97ED-4B1B-A625-0442EC5A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09D9E-87C3-464C-BF56-F3252DA8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09CD7-3F50-460E-89CD-94A79F90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B1FA7-6F7A-4721-9488-3B5FF3BB7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897B3-7096-41F2-AC38-E7E347BAD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reptunghi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reptunghi rotunjit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D79D-7E56-4160-9F30-24315A8F923F}" type="slidenum">
              <a:rPr b="0" lang="ro-RO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reptunghi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Dreptunghi rotunjit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Dreptunghi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Dreptunghi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Dreptunghi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808E-E2A1-41E5-9FC2-807BC78BFC12}" type="slidenum">
              <a:rPr b="0" lang="ro-RO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reptunghi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Dreptunghi rotunjit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Dreptunghi rotunjit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Dreptunghi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reptunghi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reptunghi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6469-A803-4EC3-A204-43DA49250274}" type="slidenum">
              <a:rPr b="0" lang="ro-RO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reptunghi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Dreptunghi rotunjit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reptunghi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Dreptunghi rotunjit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CE7D-2DA5-4FD8-A7FF-E914B94CB994}" type="slidenum">
              <a:rPr b="0" lang="ro-RO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reptunghi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Dreptunghi rotunjit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Dreptunghi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Dreptunghi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Dreptunghi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23A4-1CB7-4873-9EBD-8282681A7E51}" type="slidenum">
              <a:rPr b="0" lang="ro-RO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reptunghi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Dreptunghi rotunjit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865200" y="6314400"/>
            <a:ext cx="1508760" cy="3373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F3BD-C809-48E8-9867-915806686157}" type="slidenum">
              <a:rPr b="0" lang="ro-RO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Dreptunghi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reptunghi rotunjit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865200" y="6314400"/>
            <a:ext cx="1508760" cy="3373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8703-7435-42D5-81A7-AAA895382BC5}" type="slidenum">
              <a:rPr b="0" lang="ro-RO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reptunghi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Dreptunghi rotunjit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6865200" y="6314400"/>
            <a:ext cx="1508760" cy="3373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7F85-AFD9-445E-9F3D-D476E5CBE86D}" type="slidenum">
              <a:rPr b="0" lang="ro-RO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696464"/>
                </a:solidFill>
                <a:latin typeface="IrisUPC"/>
                <a:ea typeface="IrisUPC"/>
              </a:rPr>
              <a:t>Arte</a:t>
            </a:r>
            <a:r>
              <a:rPr b="0" lang="ro-RO" sz="2600" spc="-1" strike="noStrike">
                <a:solidFill>
                  <a:srgbClr val="696464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Les télévisions en France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59" name="Imagine 5" descr="images.jpg"/>
          <p:cNvPicPr/>
          <p:nvPr/>
        </p:nvPicPr>
        <p:blipFill>
          <a:blip r:embed="rId1"/>
          <a:stretch/>
        </p:blipFill>
        <p:spPr>
          <a:xfrm>
            <a:off x="3809880" y="4419720"/>
            <a:ext cx="1428840" cy="361800"/>
          </a:xfrm>
          <a:prstGeom prst="rect">
            <a:avLst/>
          </a:prstGeom>
          <a:ln w="0">
            <a:noFill/>
          </a:ln>
        </p:spPr>
      </p:pic>
      <p:sp>
        <p:nvSpPr>
          <p:cNvPr id="360" name="Dreptunghi 8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Cooper Black"/>
              </a:rPr>
              <a:t>P</a:t>
            </a:r>
            <a:r>
              <a:rPr b="0" lang="ro-RO" sz="3600" spc="-1" strike="noStrike">
                <a:solidFill>
                  <a:srgbClr val="ff6600"/>
                </a:solidFill>
                <a:latin typeface="Cooper Black"/>
              </a:rPr>
              <a:t>rogrammes de la chaîne</a:t>
            </a:r>
            <a:r>
              <a:rPr b="0" lang="en-US" sz="3600" spc="-1" strike="noStrike">
                <a:solidFill>
                  <a:srgbClr val="ff6600"/>
                </a:solidFill>
                <a:latin typeface="Cooper Black"/>
              </a:rPr>
              <a:t> :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Cooper Black"/>
              </a:rPr>
              <a:t>Des séri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Cooper Black"/>
              </a:rPr>
              <a:t>Des journ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Cooper Black"/>
              </a:rPr>
              <a:t>Des reportag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Cooper Black"/>
              </a:rPr>
              <a:t>Des document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Cooper Black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Cooper Black"/>
              </a:rPr>
              <a:t>’histori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oper Black"/>
              </a:rPr>
              <a:t>Des film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oper Black"/>
              </a:rPr>
              <a:t>Des </a:t>
            </a:r>
            <a:r>
              <a:rPr b="0" lang="ro-RO" sz="2600" spc="-1" strike="noStrike">
                <a:solidFill>
                  <a:srgbClr val="000000"/>
                </a:solidFill>
                <a:latin typeface="Cooper Black"/>
              </a:rPr>
              <a:t>chroniqueu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oper Black"/>
              </a:rPr>
              <a:t>Des </a:t>
            </a:r>
            <a:r>
              <a:rPr b="0" lang="ro-RO" sz="2600" spc="-1" strike="noStrike">
                <a:solidFill>
                  <a:srgbClr val="000000"/>
                </a:solidFill>
                <a:latin typeface="Cooper Black"/>
              </a:rPr>
              <a:t>dessins animés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Cooper Black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nsera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  <a:ea typeface="Arial"/>
              </a:rPr>
              <a:t>ţ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 un tip de emisiune (ex: stiri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Enumera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 toate emisiunile de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iri (sportive, meteo, culturale) pe care programul ales le prezint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Franklin Gothic Book"/>
              </a:rPr>
              <a:t>Introduce</a:t>
            </a:r>
            <a:r>
              <a:rPr b="0" lang="en-US" sz="2400" spc="-1" strike="noStrike">
                <a:solidFill>
                  <a:srgbClr val="696464"/>
                </a:solidFill>
                <a:latin typeface="Franklin Gothic Book"/>
                <a:ea typeface="Arial"/>
              </a:rPr>
              <a:t>ţ</a:t>
            </a:r>
            <a:r>
              <a:rPr b="0" lang="en-US" sz="2400" spc="-1" strike="noStrike">
                <a:solidFill>
                  <a:srgbClr val="696464"/>
                </a:solidFill>
                <a:latin typeface="Franklin Gothic Book"/>
              </a:rPr>
              <a:t>i cateva informatii generale </a:t>
            </a:r>
            <a:r>
              <a:rPr b="0" lang="en-US" sz="2400" spc="-1" strike="noStrike">
                <a:solidFill>
                  <a:srgbClr val="696464"/>
                </a:solidFill>
                <a:latin typeface="Franklin Gothic Book"/>
                <a:ea typeface="Arial"/>
              </a:rPr>
              <a:t>ş</a:t>
            </a:r>
            <a:r>
              <a:rPr b="0" lang="en-US" sz="2400" spc="-1" strike="noStrike">
                <a:solidFill>
                  <a:srgbClr val="696464"/>
                </a:solidFill>
                <a:latin typeface="Franklin Gothic Book"/>
              </a:rPr>
              <a:t>i atractive despre tipul de emisiune prezentat mai sus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Introduce</a:t>
            </a:r>
            <a:r>
              <a:rPr b="0" lang="en-US" sz="3600" spc="-1" strike="noStrike">
                <a:solidFill>
                  <a:srgbClr val="696464"/>
                </a:solidFill>
                <a:latin typeface="Franklin Gothic Book"/>
                <a:ea typeface="Arial"/>
              </a:rPr>
              <a:t>ţ</a:t>
            </a: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i alt tip de emisiuni difuzate (ex. seriale)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ntroduce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 numele emisiunilor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 repeta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 aplica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a pentru fiecare tip de emisiune difuzat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, respect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â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nd formatul de mai su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ntroduce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 o imagine la alegere (prezentatori TV, actori ai unui serial, etc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La une (emisiunea cea mai interesanta de pe postul respectiv)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Descrieti pe scurt emisiunea care v-a atras atentia inserand o secventa filmata din aceasta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De ce postul tv respectiv?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tivati modul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î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 care postul tv ales v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ă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nflue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ţ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z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ă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via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ţ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de zi cu zi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rgumenta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ţ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 r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ă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punsul din perspectiva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î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v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ăţă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ii limbii francez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0-19T10:51:19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